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5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99.png" ContentType="image/png"/>
  <Override PartName="/ppt/media/image70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3.jpeg" ContentType="image/jpeg"/>
  <Override PartName="/ppt/media/image82.jpeg" ContentType="image/jpeg"/>
  <Override PartName="/ppt/media/image56.jpeg" ContentType="image/jpeg"/>
  <Override PartName="/ppt/media/image76.jpeg" ContentType="image/jpeg"/>
  <Override PartName="/ppt/media/image73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jpeg" ContentType="image/jpeg"/>
  <Override PartName="/ppt/media/image85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439-2887-4985-88CE-B402DD80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2B9-08AF-46C3-8BBD-3C24DE5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90F-E76F-4D40-9FDE-5170CAD9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68A-0A07-469F-9B5C-7A058C57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720B-D2FC-4535-80F8-29D52796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51B1-50A1-472E-A1BC-047A8EE2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187B-CC87-45C4-A187-D2DE3F2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C777-5F94-4270-8243-325E2A73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CD8E-C9EA-4565-82F4-D9CDF08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053B-25B6-4A5D-BE1F-FD87F26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DAF-2FDE-48A3-9EF1-71C66D8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E49-A2F6-4695-A846-ECDEF81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8111-DB88-40D2-B1A1-FE6DF2A5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65E-084C-4C67-9CA1-D1019AF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883A-AD71-4B88-9CA4-3DD4F17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7F5B-E16B-476F-9A03-24542B74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7CA0-DD12-4393-9FA0-8C2DB76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FEF-3140-4A90-BAB6-A2AB104E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66A-FB2E-482C-AC42-E19A9E7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F1D-846D-4E38-ACED-1942ED0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7E7-A021-4D3F-8E56-657FD74C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579-6292-4580-AD36-5331306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018-2661-40BA-AF3D-8DE5BE4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421-99C1-4E17-93A0-424BDE7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041-33F0-40C7-8A2B-C415656B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131-8D3B-4B9B-BD8A-4CF3B162B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essure.com/wp-content/uploads/2009/04/figs.jpg&amp;imgrefurl=http://www.freepressure.com/tag/fig/&amp;usg=__ncja_aTIz18dzy93UCiL4PnbuMs=&amp;h=426&amp;w=640&amp;sz=236&amp;hl=EN&amp;start=1&amp;tbnid=4QmEJgnU45eObM:&amp;tbnh=91&amp;tbnw=137&amp;prev=/images?q=fig+fruit&amp;gbv=2&amp;ndsp=20&amp;hl=EN&amp;sa=X" TargetMode="External"/><Relationship Id="rId2" Type="http://schemas.openxmlformats.org/officeDocument/2006/relationships/image" Target="../media/image86.jpeg"/><Relationship Id="rId3" Type="http://schemas.openxmlformats.org/officeDocument/2006/relationships/hyperlink" Target="http://images.google.com/imgres?imgurl=http://asmo.jakki.org/wp/wp-content/uploads/gig-002.jpg&amp;imgrefurl=http://asmo.jakki.org/&amp;usg=__qFIQoy7U9Nf5iLhalyp7NlmZv78=&amp;h=768&amp;w=1024&amp;sz=149&amp;hl=EN&amp;start=32&amp;tbnid=tgLavvzaKwa6YM:&amp;tbnh=113&amp;tbnw=150&amp;prev=/images?q=gig&amp;gbv=2&amp;ndsp=20&amp;hl=EN&amp;sa=N&amp;start=20" TargetMode="External"/><Relationship Id="rId4" Type="http://schemas.openxmlformats.org/officeDocument/2006/relationships/image" Target="../media/image87.jpeg"/><Relationship Id="rId5" Type="http://schemas.openxmlformats.org/officeDocument/2006/relationships/hyperlink" Target="http://images.google.com/imgres?imgurl=http://www.heartlandhunters.com/images/Outdoors/2007%2520Frog%2520Gig/Frog%2520Gig%2520Comp.JPG&amp;imgrefurl=http://www.heartlandhunters.com/2007%2520Fishin%2520Trip%2520Pics.htm&amp;usg=__1twTUw-fhQCq462ogG1JijeWzDU=&amp;h=288&amp;w=384&amp;sz=11&amp;hl=EN&amp;start=7&amp;tbnid=zdkO6tyulI6KEM:&amp;tbnh=92&amp;tbnw=123&amp;prev=/images?q=frog+gig&amp;gbv=2&amp;hl=EN" TargetMode="External"/><Relationship Id="rId6" Type="http://schemas.openxmlformats.org/officeDocument/2006/relationships/image" Target="../media/image88.jpeg"/><Relationship Id="rId7" Type="http://schemas.openxmlformats.org/officeDocument/2006/relationships/hyperlink" Target="http://images.google.com/imgres?imgurl=http://www.woodpeck.com/media/main_2right-angle-jig.jpg&amp;imgrefurl=http://www.woodpeck.com/rightanglejig.html&amp;usg=__Ntyr39FA2f_ulfd8GXpNtSjVWYI=&amp;h=319&amp;w=350&amp;sz=26&amp;hl=EN&amp;start=12&amp;tbnid=xxiriv5zDxCc8M:&amp;tbnh=109&amp;tbnw=120&amp;prev=/images?q=jig&amp;gbv=2&amp;hl=EN" TargetMode="External"/><Relationship Id="rId8" Type="http://schemas.openxmlformats.org/officeDocument/2006/relationships/image" Target="../media/image89.jpeg"/><Relationship Id="rId9" Type="http://schemas.openxmlformats.org/officeDocument/2006/relationships/hyperlink" Target="http://images.google.com/imgres?imgurl=http://www.lilhustler.com/i/main/main_musky_pro_jig.gif&amp;imgrefurl=http://www.lilhustler.com/product_musky_pro_jig.shtml&amp;usg=__QVEr1Leh_4fLQ05N3LVYc5IBVok=&amp;h=300&amp;w=300&amp;sz=37&amp;hl=EN&amp;start=17&amp;tbnid=KV5sv4_OSpiBtM:&amp;tbnh=116&amp;tbnw=116&amp;prev=/images?q=jig&amp;gbv=2&amp;hl=EN" TargetMode="External"/><Relationship Id="rId10" Type="http://schemas.openxmlformats.org/officeDocument/2006/relationships/image" Target="../media/image90.jpeg"/><Relationship Id="rId11" Type="http://schemas.openxmlformats.org/officeDocument/2006/relationships/hyperlink" Target="http://images.google.com/imgres?imgurl=http://shmsmediacenter.files.wordpress.com/2009/03/st_pattys_day_jig.jpg&amp;imgrefurl=http://shmsmediacenter.wordpress.com/2009/03/17/dance-an-irish-jig/&amp;usg=__jOnQPkicTKxFBQAvHixcAievPo4=&amp;h=1983&amp;w=1059&amp;sz=1260&amp;hl=EN&amp;start=1&amp;tbnid=B4WoEOYK_1q3xM:&amp;tbnh=150&amp;tbnw=80&amp;prev=/images?q=dance+a+jig&amp;gbv=2&amp;hl=EN" TargetMode="External"/><Relationship Id="rId12" Type="http://schemas.openxmlformats.org/officeDocument/2006/relationships/image" Target="../media/image91.jpeg"/><Relationship Id="rId13" Type="http://schemas.openxmlformats.org/officeDocument/2006/relationships/hyperlink" Target="http://images.google.com/imgres?imgurl=http://2.bp.blogspot.com/_JJS1nankc_k/R1BIAz-4K5I/AAAAAAAAATE/nwW88v2OqSE/s1600-R/tamworth+pig+and+piglet.jpg&amp;imgrefurl=http://pigofknowledge.blogspot.com/2007_11_01_archive.html&amp;usg=__rE8Xwl4IKCSQsc7VbzOiMjaE5KU=&amp;h=721&amp;w=800&amp;sz=203&amp;hl=EN&amp;start=4&amp;tbnid=llYGDJBwU1pScM:&amp;tbnh=129&amp;tbnw=143&amp;prev=/images?q=pig&amp;gbv=2&amp;hl=EN" TargetMode="External"/><Relationship Id="rId14" Type="http://schemas.openxmlformats.org/officeDocument/2006/relationships/image" Target="../media/image92.jpeg"/><Relationship Id="rId15" Type="http://schemas.openxmlformats.org/officeDocument/2006/relationships/hyperlink" Target="http://images.google.com/imgres?imgurl=http://hotfile.files.wordpress.com/2008/08/oil-rig2.jpg&amp;imgrefurl=http://hotfile.wordpress.com/2008/08/19/drill-here-drill-now/&amp;usg=__cuJzLPQo9Pa3tOB1OL3nw5Wfw94=&amp;h=781&amp;w=1060&amp;sz=242&amp;hl=EN&amp;start=4&amp;tbnid=T5wyryAFwO6c2M:&amp;tbnh=111&amp;tbnw=150&amp;prev=/images?q=rig&amp;gbv=2&amp;hl=EN" TargetMode="External"/><Relationship Id="rId16" Type="http://schemas.openxmlformats.org/officeDocument/2006/relationships/image" Target="../media/image93.jpeg"/><Relationship Id="rId17" Type="http://schemas.openxmlformats.org/officeDocument/2006/relationships/image" Target="../media/image94.jpeg"/><Relationship Id="rId18" Type="http://schemas.openxmlformats.org/officeDocument/2006/relationships/image" Target="../media/image95.jpeg"/><Relationship Id="rId19" Type="http://schemas.openxmlformats.org/officeDocument/2006/relationships/image" Target="../media/image96.jpeg"/><Relationship Id="rId20" Type="http://schemas.openxmlformats.org/officeDocument/2006/relationships/image" Target="../media/image97.jpeg"/><Relationship Id="rId21" Type="http://schemas.openxmlformats.org/officeDocument/2006/relationships/image" Target="../media/image98.jpeg"/><Relationship Id="rId2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c.maricopa.edu/class/bio201/muscle/leg1.jpg&amp;imgrefurl=http://www.gwc.maricopa.edu/class/bio201/muscle/leg1.htm&amp;usg=__jOhxkPb-47l4QRvnSbFOiSHEIf4=&amp;h=451&amp;w=350&amp;sz=57&amp;hl=EN&amp;start=18&amp;tbnid=wREWCZWOjCzPuM:&amp;tbnh=127&amp;tbnw=99&amp;prev=/images?q=leg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38.photobucket.com/albums/e145/kaberly/20-PegGame_LG.jpg&amp;imgrefurl=http://kabersblog.blogspot.com/2007_05_01_archive.html&amp;usg=__uReEz4Px5hGsVdhFvd3wMkPmiqw=&amp;h=341&amp;w=350&amp;sz=23&amp;hl=EN&amp;start=27&amp;tbnid=cRZzIjc4U6NnrM:&amp;tbnh=117&amp;tbnw=120&amp;prev=/images?q=peg&amp;gbv=2&amp;ndsp=20&amp;hl=EN&amp;sa=N&amp;start=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farm3.static.flickr.com/2200/1820595684_06c5774851.jpg?v=0&amp;imgrefurl=http://flickr.com/photos/17328648@N00/1820595684/&amp;usg=__YNYGT8rOYPOnql0DWLc71DQUN6k=&amp;h=375&amp;w=500&amp;sz=124&amp;hl=EN&amp;start=31&amp;tbnid=hl6jCXm9phn74M:&amp;tbnh=98&amp;tbnw=130&amp;prev=/images?q=coffee+dreg&amp;gbv=2&amp;ndsp=20&amp;hl=EN&amp;sa=N&amp;start=20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2026/05/2026_05_1---P-O-Pride-of-Bilbao-Ferry_web.jpg&amp;imgrefurl=http://www.freefoto.com/preview/2026-05-1?ffid=2026-05-1&amp;usg=__ES7DVbY23hyEQ6wiIJk21nHEa_Q=&amp;h=400&amp;w=600&amp;sz=72&amp;hl=EN&amp;start=3&amp;tbnid=ykRc5Xnc4GMOHM:&amp;tbnh=90&amp;tbnw=135&amp;prev=/images?q=ferr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owenhomes.ca/images/ferry.jpg&amp;imgrefurl=http://www.bowenhomes.ca/about_bowen.html&amp;usg=__R6vBd5R4z0eaLBLm4nqX6uW4Brk=&amp;h=389&amp;w=600&amp;sz=127&amp;hl=EN&amp;start=23&amp;tbnid=jq9ggA0wtlFUTM:&amp;tbnh=88&amp;tbnw=135&amp;prev=/images?q=ferry&amp;gbv=2&amp;ndsp=20&amp;hl=EN&amp;sa=N&amp;start=2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d.emule.com/fondo-papa-noel-merry-christmas/fondo-papa-noel-merry-christmas.jpg&amp;imgrefurl=http://software.emule.com/sc/christmas-wallpapers/&amp;usg=__eZ0yngpkNL1aOEN1OTkRGhaxSt8=&amp;h=768&amp;w=1024&amp;sz=180&amp;hl=EN&amp;start=11&amp;tbnid=tDGe2GG1AwFJXM:&amp;tbnh=113&amp;tbnw=150&amp;prev=/images?q=merry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freefoto.com/images/11/06/11_06_14---Merry-go-round--The-Hoppings--Newcastle-upon-Tyne_web.jpg&amp;imgrefurl=http://www.freefoto.com/preview/11-06-14?ffid=11-06-14&amp;usg=__cIQYgVMhV47UIU-jvE33Leobz-k=&amp;h=400&amp;w=600&amp;sz=190&amp;hl=EN&amp;start=54&amp;tbnid=1raNuXIoe6NThM:&amp;tbnh=90&amp;tbnw=135&amp;prev=/images?q=merry&amp;gbv=2&amp;ndsp=20&amp;hl=EN&amp;sa=N&amp;start=4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upload.wikimedia.org/wikipedia/commons/f/f1/Cherry.JPG&amp;imgrefurl=http://en.wikipedia.org/wiki/File:Cherry.JPG&amp;usg=__F8Psl6u2o9DfQyBuXwbU2IEmPqI=&amp;h=480&amp;w=640&amp;sz=165&amp;hl=EN&amp;start=24&amp;tbnid=wbu2GGJ5pGCwuM:&amp;tbnh=103&amp;tbnw=137&amp;prev=/images?q=cherry&amp;gbv=2&amp;ndsp=20&amp;hl=EN&amp;sa=N&amp;start=20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americaslibrary.gov/assets/jb/progress/jb_progress_cherry_2_e.jpg&amp;imgrefurl=http://www.americaslibrary.gov/jb/progress/jb_progress_cherry_2_e.html&amp;usg=___VTOcHW3jz4sOm6t_0Ha8PRn02c=&amp;h=360&amp;w=530&amp;sz=79&amp;hl=EN&amp;start=36&amp;tbnid=gELD5U7OoVutMM:&amp;tbnh=90&amp;tbnw=132&amp;prev=/images?q=cherry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pellingcity.com/index.php?option=com_spellcity&amp;task=viewList&amp;listId=793558" TargetMode="External"/><Relationship Id="rId8" Type="http://schemas.openxmlformats.org/officeDocument/2006/relationships/hyperlink" Target="http://www.spellingcity.com/index.php?option=com_spellcity&amp;task=viewList&amp;listId=825541" TargetMode="External"/><Relationship Id="rId9" Type="http://schemas.openxmlformats.org/officeDocument/2006/relationships/hyperlink" Target="http://www.scottsboro.org/~flewis/SF%20Reading%20Street/spellmaster/Life%20Cycle%20of%20a%20Pumpkin%20Spelling/speedword2.html" TargetMode="External"/><Relationship Id="rId10" Type="http://schemas.openxmlformats.org/officeDocument/2006/relationships/hyperlink" Target="http://www.scottsboro.org/~flewis/SF%20Reading%20Street/spellmaster/Life%20Cycle%20of%20a%20Pumpkin%20Spelling/wordweb.html" TargetMode="External"/><Relationship Id="rId11" Type="http://schemas.openxmlformats.org/officeDocument/2006/relationships/hyperlink" Target="http://www.quia.com/rd/58426.html" TargetMode="External"/><Relationship Id="rId12" Type="http://schemas.openxmlformats.org/officeDocument/2006/relationships/hyperlink" Target="http://www.spellingcity.com/index.php?option=com_spellcity&amp;Itemid=122&amp;task=viewList&amp;listId=354270" TargetMode="External"/><Relationship Id="rId13" Type="http://schemas.openxmlformats.org/officeDocument/2006/relationships/hyperlink" Target="ttp://www.spellingcity.com/index.php?option=com_spellcity&amp;Itemid=&amp;task=lineMatchGame" TargetMode="External"/><Relationship Id="rId14" Type="http://schemas.openxmlformats.org/officeDocument/2006/relationships/hyperlink" Target="http://www.spellingcity.com/index.php?option=com_spellcity&amp;task=viewList&amp;listId=793579" TargetMode="External"/><Relationship Id="rId15" Type="http://schemas.openxmlformats.org/officeDocument/2006/relationships/hyperlink" Target="http://www.spellingcity.com/index.php?option=com_spellcity&amp;task=viewList&amp;listId=793579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id-laserscanner.com/wiki/_media/user_manual/image_cut_paper1.jpg&amp;imgrefurl=http://www.david-laserscanner.com/wiki/user_manual/getting_started&amp;usg=__ciaT3j-HZokniKSKSrBmEUg_ZdQ=&amp;h=401&amp;w=475&amp;sz=27&amp;hl=EN&amp;start=9&amp;tbnid=9NwQO95LaO9TQM:&amp;tbnh=109&amp;tbnw=129&amp;prev=/images?q=cut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upload.wikimedia.org/wikibooks/en/7/74/Anatomy_and_physiology_of_animals_Typical_mammalian_gut.jpg&amp;imgrefurl=http://en.wikibooks.org/wiki/Anatomy_and_Physiology_of_Animals/The_Gut_and_Digestion&amp;usg=__dOuSqKfnf7hBCVHSvdFI7QkHYLk=&amp;h=568&amp;w=579&amp;sz=57&amp;hl=EN&amp;start=2&amp;tbnid=qBwQ-U8ZDw358M:&amp;tbnh=131&amp;tbnw=134&amp;prev=/images?q=gut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hickerphoto.com/data/media/185/stone-hut_14484.jpg&amp;imgrefurl=http://www.hickerphoto.com/stone-hut-pyrenees-spain-14484-pictures.htm&amp;usg=__53hGecZCdo7nooi5ldsEX4chsHM=&amp;h=311&amp;w=468&amp;sz=54&amp;hl=EN&amp;start=19&amp;tbnid=tO1Q3ykalI9YpM:&amp;tbnh=85&amp;tbnw=128&amp;prev=/images?q=hut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img2.allposters.com/images/NGSPOD/111584-FB.jpg&amp;imgrefurl=https://www.allposters.com/-sp/Five-Spires-Dubbed-the-Hand-of-Fatima-Jut-out-of-the-Flat-Desert-Posters_i3572374_.htm&amp;usg=__Mko41MhATpxbbM0yUP-pFCNCCP8=&amp;h=450&amp;w=338&amp;sz=36&amp;hl=EN&amp;start=47&amp;tbnid=jVjdKvEQSGDoAM:&amp;tbnh=127&amp;tbnw=95&amp;prev=/images?q=jut&amp;gbv=2&amp;ndsp=20&amp;hl=EN&amp;sa=N&amp;start=40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dn-www.dailypuppy.com/media/dogs/anonymous/sutter_mutt_10.jpg&amp;imgrefurl=http://www.dailypuppy.com/puppies/sutter-the-mutt_2007-07-13&amp;usg=__L745qAl7dwwYpMWliZPQjd2Tf28=&amp;h=820&amp;w=900&amp;sz=172&amp;hl=EN&amp;start=4&amp;tbnid=X1Vi2LS9FY6dvM:&amp;tbnh=133&amp;tbnw=146&amp;prev=/images?q=mutt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botit.botany.wisc.edu/images/130/Fruits/Acorns_(nut)_MC_.jpg&amp;imgrefurl=http://botit.botany.wisc.edu/images/130/Fruits/Acorns_(nut)_MC_.html&amp;usg=__4QihKSQXOjv-52X-gfnhH3bSlF4=&amp;h=452&amp;w=640&amp;sz=55&amp;hl=EN&amp;start=3&amp;tbnid=j-e86v8rL-nizM:&amp;tbnh=97&amp;tbnw=137&amp;prev=/images?q=nut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farm1.static.flickr.com/179/476081793_aba23b843c.jpg&amp;imgrefurl=http://coolcatteacher.blogspot.com/2007/09/declare-war-on-ruts-boundaries-comfort.html&amp;usg=__jX9qaIJUeHlyfNsvxOQ4BS6gfvo=&amp;h=333&amp;w=500&amp;sz=155&amp;hl=EN&amp;start=8&amp;tbnid=SNwg7jKxHGxH7M:&amp;tbnh=87&amp;tbnw=130&amp;prev=/images?q=rut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2.bp.blogspot.com/_DLqYpb8-A40/SYnLu_Kz4xI/AAAAAAAAAmk/BFrsgbHeB7I/s400/shutdoor.jpg&amp;imgrefurl=http://whereholyfeethavetrod.blogspot.com/2009/02/shut-door-doctrine-ellen-white-gets-it.html&amp;usg=__nzeIw0b_eMjCz_rRc-fIuD-jROc=&amp;h=400&amp;w=300&amp;sz=32&amp;hl=EN&amp;start=1&amp;tbnid=Xi5q2CtoE7ENLM:&amp;tbnh=124&amp;tbnw=93&amp;prev=/images?q=shutdoor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monroe.com.au/uploads/images/images/pic_294px_quick.jpg&amp;imgrefurl=http://www.monroe.com.au/products/quick-strut.html&amp;usg=__gOwpijbo73aUjXVlWTvjoc74Tpg=&amp;h=294&amp;w=294&amp;sz=14&amp;hl=EN&amp;start=99&amp;tbnid=8PacGlI-wsf9FM:&amp;tbnh=115&amp;tbnw=115&amp;prev=/images?q=strut&amp;gbv=2&amp;ndsp=20&amp;hl=EN&amp;sa=N&amp;start=80" TargetMode="External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0.xml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slide" Target="slide72.xml"/><Relationship Id="rId6" Type="http://schemas.openxmlformats.org/officeDocument/2006/relationships/slide" Target="slide73.xml"/><Relationship Id="rId7" Type="http://schemas.openxmlformats.org/officeDocument/2006/relationships/slide" Target="slide74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77.xml"/><Relationship Id="rId11" Type="http://schemas.openxmlformats.org/officeDocument/2006/relationships/slide" Target="slide78.xml"/><Relationship Id="rId12" Type="http://schemas.openxmlformats.org/officeDocument/2006/relationships/slide" Target="slide80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4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4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5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51.jpeg"/><Relationship Id="rId1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5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5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5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5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57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63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69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72.jpeg"/><Relationship Id="rId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7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74.jpeg"/><Relationship Id="rId6" Type="http://schemas.openxmlformats.org/officeDocument/2006/relationships/hyperlink" Target="http://images.google.com/imgres?imgurl=http://www.sbs.utexas.edu/roxisteele/Shared%2520Documents/Pictures-PRandDR2007/1028%2520-%2520Psiguria%2520pedata%2520split%2520tendrils.jpg&amp;imgrefurl=http://www.sbs.utexas.edu/roxisteele/picturespranddr2007.htm&amp;usg=__S0rJ6RTHm54sjeilRm-bPSK4P8g=&amp;h=768&amp;w=1024&amp;sz=272&amp;hl=en&amp;start=7&amp;tbnid=xjV3d1mdI-vKNM:&amp;tbnh=113&amp;tbnw=150&amp;prev=/images?q=tendrils&amp;gbv=2&amp;hl=en" TargetMode="External"/><Relationship Id="rId7" Type="http://schemas.openxmlformats.org/officeDocument/2006/relationships/image" Target="../media/image75.jpeg"/><Relationship Id="rId8" Type="http://schemas.openxmlformats.org/officeDocument/2006/relationships/hyperlink" Target="http://images.google.com/imgres?imgurl=http://bp0.blogger.com/_D8VwTKAphks/RsU_WSk4x0I/AAAAAAAAFVI/S4cQ1w7v3mA/s400/tendrils.jpg&amp;imgrefurl=http://waycoolpictures.blogspot.com/2007_08_01_archive.html&amp;usg=__kZcVs0Oob8OkT_CaeAxqbkzyR64=&amp;h=400&amp;w=288&amp;sz=35&amp;hl=en&amp;start=19&amp;tbnid=M9QViIocFvK7sM:&amp;tbnh=124&amp;tbnw=89&amp;prev=/images?q=tendrils&amp;gbv=2&amp;hl=en" TargetMode="External"/><Relationship Id="rId9" Type="http://schemas.openxmlformats.org/officeDocument/2006/relationships/image" Target="../media/image76.jpeg"/><Relationship Id="rId10" Type="http://schemas.openxmlformats.org/officeDocument/2006/relationships/hyperlink" Target="http://images.google.com/imgres?imgurl=http://www.shortcourses.com/naturelog/cucumber1.jpg&amp;imgrefurl=http://www.shortcourses.com/naturelog/2003_07_01_month&amp;usg=__BFYk9nQYNYHoJdluc4DxqFuhDH4=&amp;h=281&amp;w=400&amp;sz=24&amp;hl=en&amp;start=26&amp;tbnid=Kq9Fq-4Yfnf-aM:&amp;tbnh=87&amp;tbnw=124&amp;prev=/images?q=tendrils&amp;start=20&amp;gbv=2&amp;ndsp=20&amp;hl=en&amp;sa=N" TargetMode="External"/><Relationship Id="rId11" Type="http://schemas.openxmlformats.org/officeDocument/2006/relationships/image" Target="../media/image77.jpeg"/><Relationship Id="rId12" Type="http://schemas.openxmlformats.org/officeDocument/2006/relationships/hyperlink" Target="http://images.google.com/imgres?imgurl=http://www.sbs.utexas.edu/bio406d/images/pics/vit/Ampelopsis%2520arborea%2520tendrils.jpg&amp;imgrefurl=http://www.sbs.utexas.edu/bio406d/images/pics/vit/ampelopsis_arborea.htm&amp;usg=__68n1AwTzcPvVikueGZalVDUm9h8=&amp;h=480&amp;w=640&amp;sz=57&amp;hl=en&amp;start=30&amp;tbnid=jssOyK9ZI_QNrM:&amp;tbnh=103&amp;tbnw=137&amp;prev=/images?q=tendrils&amp;start=20&amp;gbv=2&amp;ndsp=20&amp;hl=en&amp;sa=N" TargetMode="External"/><Relationship Id="rId13" Type="http://schemas.openxmlformats.org/officeDocument/2006/relationships/image" Target="../media/image78.jpeg"/><Relationship Id="rId1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0.xml"/><Relationship Id="rId3" Type="http://schemas.openxmlformats.org/officeDocument/2006/relationships/slide" Target="slide87.xml"/><Relationship Id="rId4" Type="http://schemas.openxmlformats.org/officeDocument/2006/relationships/slide" Target="slide105.xml"/><Relationship Id="rId5" Type="http://schemas.openxmlformats.org/officeDocument/2006/relationships/slide" Target="slide123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edfest.co.uk/seeds/beans/blue-lake-bean.jpg&amp;imgrefurl=http://www.seedfest.co.uk/seeds/beans/beans.html&amp;usg=__DKjgzocNsxLF_1muSBGdRuJxQSE=&amp;h=331&amp;w=515&amp;sz=259&amp;hl=EN&amp;start=26&amp;tbnid=6AfcqC0n4IL4CM:&amp;tbnh=84&amp;tbnw=131&amp;prev=/images?q=bean&amp;gbv=2&amp;ndsp=20&amp;hl=EN&amp;sa=N&amp;start=20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images.google.com/imgres?imgurl=http://www.jou.ufl.edu/pubs/communigator/spring2006/images/hynes-desk.jpg&amp;imgrefurl=http://www.jou.ufl.edu/pubs/communigator/spring2006/coverstory.php&amp;usg=__dUu3x7gmLW2iJ-MraQkc6RqODXo=&amp;h=300&amp;w=450&amp;sz=30&amp;hl=EN&amp;start=49&amp;tbnid=1UV99WOGtXx_SM:&amp;tbnh=85&amp;tbnw=127&amp;prev=/images?q=college+dean&amp;gbv=2&amp;ndsp=20&amp;hl=EN&amp;sa=N&amp;start=40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i273.photobucket.com/albums/jj219/alohanema/weight-loss/200804/low-fat-cooking/lean-meat.jpg&amp;imgrefurl=http://letdiet.blogspot.com/2008/04/ten-low-fat-cooking-tips.html&amp;usg=__u5ESulY6zsQw7LUVsFeaZuDU0wU=&amp;h=336&amp;w=500&amp;sz=36&amp;hl=EN&amp;start=16&amp;tbnid=zgO2nHMp7t7kaM:&amp;tbnh=87&amp;tbnw=130&amp;prev=/images?q=leanmeat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i.ivillage.com/PP/tween_teen/bully_slideshow/girls_mean_325.jpg&amp;imgrefurl=http://parenting.ivillage.com/slideshow/parenting/pencils_books_and_dirty_looks/mean_girls_are_getting_meaner.html&amp;usg=__p8kTWDhjI0-Sip3_boUPkR42ZCk=&amp;h=445&amp;w=325&amp;sz=41&amp;hl=EN&amp;start=17&amp;tbnid=omyZn9WrMgTdXM:&amp;tbnh=127&amp;tbnw=93&amp;prev=/images?q=mean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i.ehow.com/images/GlobalPhoto/Articles/4586419/77212-main_Full.jpg&amp;imgrefurl=http://www.ehow.com/how_2142399_not-wean-baby-bottle.html&amp;usg=__5gXZO3YakU_PuIIDHg1Cwy0uya0=&amp;h=265&amp;w=300&amp;sz=10&amp;hl=EN&amp;start=34&amp;tbnid=c5qk7HFAcCnXHM:&amp;tbnh=102&amp;tbnw=116&amp;prev=/images?q=wean&amp;gbv=2&amp;ndsp=20&amp;hl=EN&amp;sa=N&amp;start=20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mariabuszek.com/kcai/101-80/IntroImages/Exam%25202/MilletGlean.jpg&amp;imgrefurl=http://www.mariabuszek.com/kcai/101-80/AcdmsImpr.htm&amp;usg=__HBOLLeOZDUQE2lPKSNJkGr1qhs8=&amp;h=418&amp;w=560&amp;sz=23&amp;hl=EN&amp;start=76&amp;tbnid=4_ivXbIsZUGayM:&amp;tbnh=99&amp;tbnw=133&amp;prev=/images?q=glean&amp;gbv=2&amp;ndsp=20&amp;hl=EN&amp;sa=N&amp;start=60" TargetMode="External"/><Relationship Id="rId12" Type="http://schemas.openxmlformats.org/officeDocument/2006/relationships/image" Target="../media/image8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lick to listen to story.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,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124080" y="114300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’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56" name="Picture 2" descr="http://tbn0.google.com/images?q=tbn:4QmEJgnU45eObM:http://www.freepressure.com/wp-content/uploads/2009/04/f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1490760" cy="99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http://tbn2.google.com/images?q=tbn:tgLavvzaKwa6YM:http://asmo.jakki.org/wp/wp-content/uploads/gig-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4479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http://tbn2.google.com/images?q=tbn:zdkO6tyulI6KEM:http://www.heartlandhunters.com/images/Outdoors/2007%2520Frog%2520Gig/Frog%2520Gig%2520Com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447920"/>
            <a:ext cx="163008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tbn3.google.com/images?q=tbn:xxiriv5zDxCc8M:http://www.woodpeck.com/media/main_2right-angle-ji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3581280"/>
            <a:ext cx="134316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http://tbn0.google.com/images?q=tbn:KV5sv4_OSpiBtM:http://www.lilhustler.com/i/main/main_musky_pro_ji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76520" y="358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ttp://tbn0.google.com/images?q=tbn:B4WoEOYK_1q3xM:http://shmsmediacenter.files.wordpress.com/2009/03/st_pattys_day_ji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3352680"/>
            <a:ext cx="838080" cy="15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http://tbn2.google.com/images?q=tbn:llYGDJBwU1pScM:http://2.bp.blogspot.com/_JJS1nankc_k/R1BIAz-4K5I/AAAAAAAAATE/nwW88v2OqSE/s1600-R/tamworth%2Bpig%2Band%2Bpigle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05520" y="3581280"/>
            <a:ext cx="1361880" cy="12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" descr="http://tbn2.google.com/images?q=tbn:T5wyryAFwO6c2M:http://hotfile.files.wordpress.com/2008/08/oil-rig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91320" y="1523880"/>
            <a:ext cx="15444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http://tbn3.google.com/images?q=tbn:qEM7dP9vFXl4IM:http://www.videos.sailingcourse.com/images/uphauling-the-rig.jpg"/>
          <p:cNvPicPr/>
          <p:nvPr/>
        </p:nvPicPr>
        <p:blipFill>
          <a:blip r:embed="rId17"/>
          <a:stretch/>
        </p:blipFill>
        <p:spPr>
          <a:xfrm>
            <a:off x="7543800" y="152388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" descr="http://tbn1.google.com/images?q=tbn:uNgNLe-UwoWZ5M:http://www.completelybonkers.co.uk/images/categories/babe%2520wig%2520pink.jpg"/>
          <p:cNvPicPr/>
          <p:nvPr/>
        </p:nvPicPr>
        <p:blipFill>
          <a:blip r:embed="rId18"/>
          <a:stretch/>
        </p:blipFill>
        <p:spPr>
          <a:xfrm>
            <a:off x="12193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2" descr="http://tbn1.google.com/images?q=tbn:k2bdddqtt80icM:http://www.hnsa.org/ships/img/niagara1.jpg"/>
          <p:cNvPicPr/>
          <p:nvPr/>
        </p:nvPicPr>
        <p:blipFill>
          <a:blip r:embed="rId19"/>
          <a:stretch/>
        </p:blipFill>
        <p:spPr>
          <a:xfrm>
            <a:off x="6705720" y="5334120"/>
            <a:ext cx="1171440" cy="130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http://tbn0.google.com/images?q=tbn:2ybQGnTx_meAqM:http://www.yorktownsailor.com/yorktown/brig1.jpg"/>
          <p:cNvPicPr/>
          <p:nvPr/>
        </p:nvPicPr>
        <p:blipFill>
          <a:blip r:embed="rId20"/>
          <a:stretch/>
        </p:blipFill>
        <p:spPr>
          <a:xfrm>
            <a:off x="3809880" y="5562720"/>
            <a:ext cx="1190880" cy="904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http://tbn0.google.com/images?q=tbn:mbAkO-Iih37Z1M:http://img.photobucket.com/albums/v665/hautlipz/swig_o_nog.jpg"/>
          <p:cNvPicPr/>
          <p:nvPr/>
        </p:nvPicPr>
        <p:blipFill>
          <a:blip r:embed="rId21"/>
          <a:stretch/>
        </p:blipFill>
        <p:spPr>
          <a:xfrm>
            <a:off x="6858000" y="350532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5"/>
          <p:cNvSpPr/>
          <p:nvPr/>
        </p:nvSpPr>
        <p:spPr>
          <a:xfrm>
            <a:off x="772200" y="25909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2600280" y="2743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Box 17"/>
          <p:cNvSpPr/>
          <p:nvPr/>
        </p:nvSpPr>
        <p:spPr>
          <a:xfrm>
            <a:off x="4086000" y="26668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rog 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6334560" y="26668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9"/>
          <p:cNvSpPr/>
          <p:nvPr/>
        </p:nvSpPr>
        <p:spPr>
          <a:xfrm>
            <a:off x="7934760" y="27432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706680" y="48769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200196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375444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5495760" y="4876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7183080" y="464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2299680" y="5791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5041440" y="579132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7936920" y="571500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’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971800" y="10666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’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895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“An Annual Event.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2" descr="An Annual Event"/>
          <p:cNvPicPr/>
          <p:nvPr/>
        </p:nvPicPr>
        <p:blipFill>
          <a:blip r:embed="rId1"/>
          <a:srcRect l="1516" t="1119" r="6065" b="17242"/>
          <a:stretch/>
        </p:blipFill>
        <p:spPr>
          <a:xfrm>
            <a:off x="3429000" y="246240"/>
            <a:ext cx="55245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vowel sound do you hea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that the vowels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7760" y="15192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s oo can stand for the vowel sound in book or in moon.  Context provides 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77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 u can stand for short u or the vowel sound in book.  Context provides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vowels sounds the same in pup and in pu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2" descr="http://tbn2.google.com/images?q=tbn:wREWCZWOjCzPuM:http://www.gwc.maricopa.edu/class/bio201/muscle/le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tbn3.google.com/images?q=tbn:cRZzIjc4U6NnrM:http://i38.photobucket.com/albums/e145/kaberly/20-PegGame_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209680"/>
            <a:ext cx="250056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bn3.google.com/images?q=tbn:hl6jCXm9phn74M:http://farm3.static.flickr.com/2200/1820595684_06c5774851.jpg%3Fv%3D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2514600"/>
            <a:ext cx="252720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1307160" y="4648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898080" y="46483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679608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r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" descr="http://tbn0.google.com/images?q=tbn:ykRc5Xnc4GMOHM:http://www.freefoto.com/images/2026/05/2026_05_1---P-O-Pride-of-Bilbao-Ferry_we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tbn0.google.com/images?q=tbn:jq9ggA0wtlFUTM:http://www.bowenhomes.ca/images/fer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210348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tbn2.google.com/images?q=tbn:tDGe2GG1AwFJXM:http://d.emule.com/fondo-papa-noel-merry-christmas/fondo-papa-noel-merry-christma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26708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tbn1.google.com/images?q=tbn:1raNuXIoe6NThM:http://www.freefoto.com/images/11/06/11_06_14---Merry-go-round--The-Hoppings--Newcastle-upon-Tyne_we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1905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tbn2.google.com/images?q=tbn:wbu2GGJ5pGCwuM:http://upload.wikimedia.org/wikipedia/commons/f/f1/Cherry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81080"/>
            <a:ext cx="1722600" cy="129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://tbn3.google.com/images?q=tbn:gELD5U7OoVutMM:http://www.americaslibrary.gov/assets/jb/progress/jb_progress_cherry_2_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267080"/>
            <a:ext cx="2151000" cy="1467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1"/>
          <p:cNvSpPr/>
          <p:nvPr/>
        </p:nvSpPr>
        <p:spPr>
          <a:xfrm>
            <a:off x="1094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018080" y="5562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4147560" y="342900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4071240" y="58672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8940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7046280" y="571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lling City-Vo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gh Frequency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3"/>
              </a:rPr>
              <a:t>Match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an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o/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0" lang="en-US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909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“A Good Seed.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5" name="Picture 1" descr="Phonics Songs and Rhymes Chart 17"/>
          <p:cNvPicPr/>
          <p:nvPr/>
        </p:nvPicPr>
        <p:blipFill>
          <a:blip r:embed="rId1"/>
          <a:srcRect l="0" t="0" r="0" b="14262"/>
          <a:stretch/>
        </p:blipFill>
        <p:spPr>
          <a:xfrm>
            <a:off x="3886200" y="210960"/>
            <a:ext cx="472428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“A Good Seed.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Picture 4" descr="http://tbn0.google.com/images?q=tbn:9NwQO95LaO9TQM:http://www.david-laserscanner.com/wiki/_media/user_manual/image_cut_pap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98108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tbn0.google.com/images?q=tbn:qBwQ-U8ZDw358M:http://upload.wikimedia.org/wikibooks/en/7/74/Anatomy_and_physiology_of_animals_Typical_mammalian_gu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28800"/>
            <a:ext cx="1276560" cy="124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tbn0.google.com/images?q=tbn:tO1Q3ykalI9YpM:http://www.hickerphoto.com/data/media/185/stone-hut_1448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828800"/>
            <a:ext cx="195084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http://tbn1.google.com/images?q=tbn:jVjdKvEQSGDoAM:http://img2.allposters.com/images/NGSPOD/111584-F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190512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http://tbn2.google.com/images?q=tbn:X1Vi2LS9FY6dvM:http://cdn-www.dailypuppy.com/media/dogs/anonymous/sutter_mutt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91120"/>
            <a:ext cx="1390680" cy="126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tbn0.google.com/images?q=tbn:j-e86v8rL-nizM:http://botit.botany.wisc.edu/images/130/Fruits/Acorns_(nut)_MC_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343400"/>
            <a:ext cx="150624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tbn0.google.com/images?q=tbn:SNwg7jKxHGxH7M:http://farm1.static.flickr.com/179/476081793_aba23b843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19112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://tbn2.google.com/images?q=tbn:Xi5q2CtoE7ENLM:http://2.bp.blogspot.com/_DLqYpb8-A40/SYnLu_Kz4xI/AAAAAAAAAmk/BFrsgbHeB7I/s400/shutdoo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828800"/>
            <a:ext cx="990720" cy="132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tbn0.google.com/images?q=tbn:8PacGlI-wsf9FM:http://www.monroe.com.au/uploads/images/images/pic_294px_qui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4114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928080" y="3124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456640" y="30481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4662360" y="3124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6501600" y="31240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7793640" y="320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786600" y="548640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u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833560" y="5410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n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119200" y="5562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7494480" y="5638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’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1028%2520-%2520Psiguria%2520pedata%2520split%2520tendr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tendr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ucumber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Ampelopsis%2520arborea%2520tendr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ut,  cook, stood, full, wood, July, shook, push, pull, brook, hook, hood, pudding, cushion, footprin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 words name parts of a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root, 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this group: apple, orange,  p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something that a farmer might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harv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s tell how something fee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bumpy,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s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13" name="Picture 2" descr="http://tbn0.google.com/images?q=tbn:6AfcqC0n4IL4CM:http://www.seedfest.co.uk/seeds/beans/blue-lake-be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23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tbn1.google.com/images?q=tbn:1UV99WOGtXx_SM:http://www.jou.ufl.edu/pubs/communigator/spring2006/images/hynes-des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82880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tbn2.google.com/images?q=tbn:zgO2nHMp7t7kaM:http://i273.photobucket.com/albums/jj219/alohanema/weight-loss/200804/low-fat-cooking/lean-me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90512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http://tbn1.google.com/images?q=tbn:omyZn9WrMgTdXM:http://i.ivillage.com/PP/tween_teen/bully_slideshow/girls_mean_3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1911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bn0.google.com/images?q=tbn:c5qk7HFAcCnXHM:http://i.ehow.com/images/GlobalPhoto/Articles/4586419/77212-main_Ful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4267080"/>
            <a:ext cx="1828800" cy="1608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http://tbn3.google.com/images?q=tbn:4_ivXbIsZUGayM:http://www.mariabuszek.com/kcai/101-80/IntroImages/Exam%25202/MilletGlea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4038480"/>
            <a:ext cx="2662200" cy="19814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314720" y="33526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210920" y="3352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878160" y="32004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1243800" y="5867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4060800" y="60199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033680" y="5867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1-10T00:21:29Z</dcterms:modified>
  <cp:revision>48</cp:revision>
  <dc:subject/>
  <dc:title>Slide 1</dc:title>
</cp:coreProperties>
</file>